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47B-B8BF-401A-8F5E-8A8C7579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EFF-0267-4C95-BC68-1B78ACA4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A13-B31A-4692-9F68-A4A4103F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FD3-F4B6-49FF-B5AB-AF5B2FB0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F187-C951-447A-8D8E-29E3F930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0C47-0D6F-4D17-B4F4-94412A5B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3675-36E5-42F1-9904-3DEDFD40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0923-AE3A-48E2-A1FA-B89F7DB1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96F7-D419-4C8A-B9B0-99BDD9DD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452E-0FE7-4C76-9B46-6E13F29C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A1F5-29D0-4BF4-9EDF-E3C1C5B4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3AC-EA54-4825-83B5-F9A1D1D4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692D-E01B-42EE-A748-927E2C1E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785B-0BB1-4890-BA23-BA0B1409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9B4F-A90A-488E-979E-E635A399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41D5-3AA7-4C98-94BB-DF51CED5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B97B-F10A-46A6-816B-49066189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DEF-6B44-4D89-A197-2A70FA73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BC9E-69BE-418F-9C15-B2E4C70D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7558-480C-4676-A815-D756B421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CF1-06E7-4C44-B693-50AA5A52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12AD-4ADF-4FE0-AE74-3EEAF86C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EA0-1F72-4BBD-85E3-1218E99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A3A1-66A5-4255-8D59-EE9EE9D8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8ADA-D1D3-44B7-95F0-921A9C0E4C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D11A-A787-43B9-8A13-E7C243BB0F5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042920" y="836640"/>
            <a:ext cx="67676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Изуче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ыращиван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исталлов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042920" y="907920"/>
            <a:ext cx="6985080" cy="523872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042920" y="333360"/>
            <a:ext cx="7272360" cy="59310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>
            <a:lum bright="30000"/>
          </a:blip>
          <a:srcRect l="11374" t="6709" r="14882" b="11291"/>
          <a:stretch/>
        </p:blipFill>
        <p:spPr>
          <a:xfrm>
            <a:off x="971640" y="333360"/>
            <a:ext cx="7416720" cy="59943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hoto048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395280" y="549360"/>
            <a:ext cx="3600360" cy="257184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216" name="Photo0483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788000" y="3933720"/>
            <a:ext cx="3529080" cy="24465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217" name="Photo0481" descr=""/>
          <p:cNvPicPr/>
          <p:nvPr/>
        </p:nvPicPr>
        <p:blipFill>
          <a:blip r:embed="rId3">
            <a:lum bright="24000"/>
          </a:blip>
          <a:srcRect l="7618" t="0" r="0" b="0"/>
          <a:stretch/>
        </p:blipFill>
        <p:spPr>
          <a:xfrm>
            <a:off x="4788000" y="620640"/>
            <a:ext cx="3598920" cy="25192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4">
            <a:lum bright="30000"/>
          </a:blip>
          <a:stretch/>
        </p:blipFill>
        <p:spPr>
          <a:xfrm>
            <a:off x="468360" y="3933720"/>
            <a:ext cx="3527280" cy="24480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hoto0486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003640" y="1197000"/>
            <a:ext cx="3886200" cy="321480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220" name="Photo0485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55640" y="2924280"/>
            <a:ext cx="4032360" cy="32572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413640" y="-1554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200" y="475560"/>
            <a:ext cx="4263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«…Кристаллы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плавающие 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жидкости…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640" y="3612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74320" y="5965200"/>
            <a:ext cx="249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14360" y="8561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5040" y="10831320"/>
            <a:ext cx="62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«…. цветные и прозрачные, гладкие и пористые…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320"/>
                            </p:stCondLst>
                            <p:childTnLst>
                              <p:par>
                                <p:cTn id="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20"/>
                            </p:stCondLst>
                            <p:childTnLst>
                              <p:par>
                                <p:cTn id="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>
            <a:lum bright="24000"/>
          </a:blip>
          <a:srcRect l="12815" t="0" r="10630" b="0"/>
          <a:stretch/>
        </p:blipFill>
        <p:spPr>
          <a:xfrm>
            <a:off x="1042920" y="1916280"/>
            <a:ext cx="5543640" cy="42894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7416720" cy="557532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1692360" y="1700280"/>
            <a:ext cx="6696000" cy="446400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hoto0499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427640" y="3500280"/>
            <a:ext cx="4248000" cy="313056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95280" y="333360"/>
            <a:ext cx="4249800" cy="301788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-206064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>
            <a:lum bright="30000"/>
          </a:blip>
          <a:srcRect l="0" t="13449" r="0" b="0"/>
          <a:stretch/>
        </p:blipFill>
        <p:spPr>
          <a:xfrm>
            <a:off x="1042920" y="981000"/>
            <a:ext cx="6913800" cy="518652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042920" y="981000"/>
            <a:ext cx="6913800" cy="518472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235" name="Photo0504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6913800" cy="518472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  <p:pic>
        <p:nvPicPr>
          <p:cNvPr id="236" name="Photo0506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042920" y="981000"/>
            <a:ext cx="6913800" cy="5184720"/>
          </a:xfrm>
          <a:prstGeom prst="rect">
            <a:avLst/>
          </a:prstGeom>
          <a:ln w="38160">
            <a:solidFill>
              <a:srgbClr val="993366"/>
            </a:solidFill>
            <a:miter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7:25:00Z</dcterms:created>
  <dc:creator>User</dc:creator>
  <dc:description/>
  <dc:language>en-US</dc:language>
  <cp:lastModifiedBy>wsmain13</cp:lastModifiedBy>
  <dcterms:modified xsi:type="dcterms:W3CDTF">2008-12-26T13:53:42Z</dcterms:modified>
  <cp:revision>14</cp:revision>
  <dc:subject/>
  <dc:title>Слайд 1</dc:title>
</cp:coreProperties>
</file>